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4C3B-E96B-4EA4-81B8-CA4E2279BA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52A1-568F-46E1-80A8-6E6D950B48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D8F-DE77-4969-B42A-DE819495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A401-8C18-4238-B400-DA435DF5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3CE-B284-48CD-BDC5-FE5BDE15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12C-795F-4D06-959B-6E2B3D89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78D1-F103-4B04-9EA8-C4F7B17C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39A-09CA-4FC6-9171-9012163F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7B31-5D30-44EC-BC7F-D6310747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F5F8-0C32-4DD7-912B-02697938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89C8-0DF5-403E-8CDA-7D543136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4FF-0154-4384-9B4B-40C40B69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C840-2DC6-4D8C-893B-51D89C94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60E-2D6F-4775-AD74-CB259FAA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7FD9-DC9D-4380-ABEF-67276F7A620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2115000" y="392040"/>
            <a:ext cx="171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c085b"/>
                </a:solidFill>
                <a:latin typeface="Century"/>
              </a:rPr>
              <a:t>TURS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Flyer_Tursz_bw3a"/>
          <p:cNvPicPr/>
          <p:nvPr/>
        </p:nvPicPr>
        <p:blipFill>
          <a:blip r:embed="rId1"/>
          <a:stretch/>
        </p:blipFill>
        <p:spPr>
          <a:xfrm>
            <a:off x="392040" y="1063800"/>
            <a:ext cx="3695760" cy="53784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825480" y="603360"/>
            <a:ext cx="13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c085b"/>
                </a:solidFill>
                <a:latin typeface="Century"/>
              </a:rPr>
              <a:t>A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4275000" y="0"/>
            <a:ext cx="4896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2881440" y="6315120"/>
            <a:ext cx="7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entury"/>
              </a:rPr>
              <a:t>S e u i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4T17:47:37Z</dcterms:created>
  <dc:creator>Jon</dc:creator>
  <dc:description/>
  <dc:language>en-US</dc:language>
  <cp:lastModifiedBy>Anne</cp:lastModifiedBy>
  <dcterms:modified xsi:type="dcterms:W3CDTF">2013-09-14T16:21:00Z</dcterms:modified>
  <cp:revision>7</cp:revision>
  <dc:subject/>
  <dc:title>Diapositive 1</dc:title>
</cp:coreProperties>
</file>